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6A11-99A0-4DCD-9FD4-041307B8C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45FC-B8BD-462B-8DF3-C0E67145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8722-CC89-4C0C-A2FA-C5F1E5FA3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F3E0-9F56-4198-BB5F-8CD8997BC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0EF1-25B1-49D1-AC59-C1ADE360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B0F9-5711-4DE2-A13C-BA5F2140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4413-29C9-4A38-9552-934BD27B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1679-DC77-48EA-81CF-C1B9CC45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2386-3A01-466B-8A3A-4B0811D2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E017-BC65-43F6-A61C-E45628D7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0785-8482-41CE-816E-FBE07369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EF95-AFBF-42E7-ABFE-C502E93F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F1FB-3B4F-4A8F-97B1-380BBD799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Apostles’ Creed (baptismal for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In unity with the whole Church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let us stand and affirm the fai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into which we were baptis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1 of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Do you believe in Go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 believe in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Father Almight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reator of heaven and ear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2 of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Do you believe in Jesus Chri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 believe in Jesus Chri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od’s only Son, our Lor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was conceiv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y the Holy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orn of the Virgin Mar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3 of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uffered under Pontius Pilat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as crucified, die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was buri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descended to the d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4 of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n the third day he rose agai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ascended into heav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is seated at the right h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the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he will come to judge the living and the d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5 of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Do you believe in the Holy Spir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 believe in the Holy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holy catholic Churc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communion of saint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forgiveness of sin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resurrection of the bod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the life everlasting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63244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6 of 6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ELLC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1:40:14Z</dcterms:created>
  <dc:creator>Anon Anon</dc:creator>
  <dc:description/>
  <dc:language>en-US</dc:language>
  <cp:lastModifiedBy>Anon Anon</cp:lastModifiedBy>
  <dcterms:modified xsi:type="dcterms:W3CDTF">2005-08-16T04:23:11Z</dcterms:modified>
  <cp:revision>19</cp:revision>
  <dc:subject/>
  <dc:title>PowerPoint Presentation</dc:title>
</cp:coreProperties>
</file>